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14B-CEE4-4756-BEB3-E9513248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3D8-E7F3-4DB3-9E32-7F79B729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6EB-94A4-4A0D-B508-DCC92A23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D3F-7D4E-4F45-8399-6E76DEB0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C46A-EF79-429F-8FD9-75DCAB6B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BFD4-F1FE-4D4F-9B3D-F67FCEE0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845D-75D3-45D9-AB77-6086B2AC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70CD-2078-43C1-B0F2-3EB8CA4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5AE0-4EDB-400F-8156-86E27D7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A1EC-2430-49BE-A067-6CCDCE09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92E-F9DE-43E1-BC5F-EEAE988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9B0-34CC-48F7-8B60-9D16FF7F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9C0-DF8F-496B-9930-E6781E5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1DC1-8C5B-43AC-B640-FC79F42C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265A-918C-4A55-87CD-B91E67E1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C10E-31CA-4379-991B-EAC771E5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FC65-A282-44FB-A72D-16E271DF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738-1379-4842-8DFA-969134C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69D-4453-4A3A-B6C6-70D4DC63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9C9-B2F1-4EBE-B2FD-2224148A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F7D-5476-4F7A-A3C5-20809E01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D41-0853-42F1-8601-0F6FE483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570-1FDB-4959-AF1B-1429944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C1A-9D21-4100-9F98-7144F0B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9C60-801B-4EBA-A4E6-3DD89E3E6536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08C-3883-4953-BA2A-3CFBA7CA859A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olving Equatio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solve any degree one equ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rms: parts of equation that are added or subtrac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spcAft>
                <a:spcPts val="1001"/>
              </a:spcAft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ike Terms: Terms with same form of the variable, and real numb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variable is a letter which represents an unknown number.  Any letter can be used as a vari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algebraic expression contains at least one vari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s:  a, x+5, 3y-4, et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Review of Terminolog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verbal expression uses words to translate algebraic express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“The difference of 20 and x” represents 20-x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 equation is a sentence that states that two mathematical expressions are equ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 2x -16 = 18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lving Equation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plify each side of the equation, if needed, by distributing or combining like term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ve variables to one side of the equation by using the opposite operation of addition or subtrac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 the operation(s) being done the the vari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the inverse operation(s) to isolate the vari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eck your answer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9:30:57Z</dcterms:created>
  <dc:creator>PA Department of Education</dc:creator>
  <dc:description/>
  <dc:language>en-US</dc:language>
  <cp:lastModifiedBy>Parkland High School</cp:lastModifiedBy>
  <dcterms:modified xsi:type="dcterms:W3CDTF">2010-09-20T13:09:52Z</dcterms:modified>
  <cp:revision>6</cp:revision>
  <dc:subject/>
  <dc:title>Unit 1 Section 1.4 Solving Equations</dc:title>
</cp:coreProperties>
</file>